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ct" ContentType="image/x-pict"/>
  <Override PartName="/ppt/media/image9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BF0-459A-4A5C-9035-BC12A198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CC7-4FAF-4568-B88A-E71D6E0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AF4F2-B1BD-4622-8808-38B9AB90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F727-EA67-408E-B040-B26AEB20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09CDE-6B5B-4EC0-8EC4-DFA895B8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5142E-A314-469D-9F3D-B54A10E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26592-CE89-41BC-8D9E-7D3AE62A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AB899-2E76-42C0-895B-F0447E2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771D8-2670-4369-ACE4-422ED8E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AA475-B258-4BD4-85B7-ACD0C17D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0D4E1-11DA-45F3-8E73-DD7A68C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7DD75-A9B7-4530-ADA3-3C8EC9DF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4D1-EDCE-412F-B595-CB7EE30C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B06E9-B66B-404B-8615-C8C79B9C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0996C-A43C-40D1-A26C-6B1E5514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BB67E-947A-4C09-8FBA-307A74EB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B9E8C-A6E2-4E6A-8C49-AD907D06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DF1CA-C026-40A3-A22C-7A4AECB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C035-7757-4D0A-9EAC-C6E5036B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92B6-9569-4762-8B53-514F1DDE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E366D-5FFF-4E4F-94F3-2F63493F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BA498-4038-44A9-80C7-57D66B41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53F5-2FAD-42A5-B06F-A59C626D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DC3-CE30-4C04-86BC-4AA7357E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1D362-D89A-4F31-ACA6-90E87010A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C1A67-A397-40C7-94EA-35F57B4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48D1A-7034-46FA-998B-13B5F2CB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87DB0-B455-4888-8027-5EBE5E70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98DD-DEE1-4F75-9BCE-64979083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AE416-3741-41DF-8FED-FC6F644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12FAB-C3CC-4999-A16F-FCBF8CA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D18D1-DAC2-43CF-A8CB-C9F1E27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57488-EB6E-4785-960D-6862C1A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AFCC9-4824-4AFD-B957-AA3772AA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27FF-3D27-4B6A-A1C9-A21AC782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1DBAB-DBB2-4E10-A5DD-3F8F247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6B681-AA08-4B5E-A4B4-094ACCC2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120B9-38C9-45E1-A14C-600E0D55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28EB-C929-4D77-AC2E-A11D9D54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2ABB6-331B-4052-A262-E362472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6ECF5-3390-44DD-950F-2A6EEC94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8D6EC-404A-494B-807C-2E0C27D1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4B204-6EC3-4E7B-912D-A818512B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477C9-A480-4ED7-B40A-C06393A9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8697-A355-4F22-A647-B753954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6CD0-BF70-4BAA-AC08-E7E02066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86E3E-FD1C-400F-9B3F-BC422AF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6B49E-3AFE-421F-AF54-0B5A4DC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C5884-EB09-4DCE-BD6C-4A3FCE2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F8C21-BD69-4A6E-B056-6349E33A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1C40B-5A5E-4770-860D-455E1D9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8C451-E29F-4A94-AEFE-647DBB26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C2DEC-6327-4AAB-98B7-0057AF6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09B2D-30B7-4857-ABC9-2F5FEDF1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26D97-27D7-4C11-9208-6E26AD75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35EC5-4CFD-4651-BEAF-7FC0630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F6B-B8BA-48A9-BFC4-E731115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9FBC5-FF26-415D-9924-BE2A49B3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40851-53E8-43F9-94E9-67ACE13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AD35C-52C5-49DE-ADC1-5008C02E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43C52-3E68-47DF-8E9F-CA4BAF3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6C02D-BB6D-4DF5-83E8-7923432F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C13C2-59A8-4B89-B9BA-D7B9870A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F3E7C-AEF1-46C7-8E9D-684646DF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ACE2C-A6E4-433F-BBE4-69436DFD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7BB84-479F-4781-AB0D-3BF7594A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589D5-6412-4EAE-95EB-46A6EF0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241-52DB-4AFD-BEA3-5C862E4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BCD86-6D47-42E8-8565-CF3C4D23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623A3-B538-4A5D-A4B1-3249EDE1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37702-3CB8-45AB-AACE-301B96EB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80C3E-0354-4C5B-8C2B-AE970617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9A76F-25E8-43DC-8047-A8CD8A68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18E7F-EFD1-4301-98FF-08019AD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59FC8-11D1-4EB5-A966-55852A8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2911D-8A54-4376-AA33-6370C834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10D470-1C20-4BEC-A868-C7FC7706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D7C8E-8D1E-4BFE-977A-D79568E3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221A-900B-498C-84CD-091955DA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DD368-1F76-4852-B16A-26B3E500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E252E-886A-4768-AEA7-E4FB46F8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45461-667A-42CA-AE85-56695604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5EC43-C18D-48EC-8399-F1A4E69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98039-2EBD-4275-84DD-18DEDD6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414F0-F912-41C8-81F3-60B1E2E1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79B13-CF50-4857-BA97-AB8817F3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6DE6D-CB52-4DEF-BDA1-5DF2CE3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0D052-6E49-41A1-B86F-111FE3EE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B09E7-02AE-4921-8377-89AD8F40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0B1-D291-4174-9F78-A8906AA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E3E90-5688-40B9-8A55-0FB3CC03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A4D2-A116-4DA4-A9DB-CB37FE4A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AA3-5E1D-444E-BCD5-EEE8633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23CE-5FBD-41C9-ACB6-A945EFE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D6A-5CCE-4A1E-A0D8-6638655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0C0-19CA-4A04-A31D-04EA7271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81E8-A6A7-4374-AF7D-F24208D4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FB71-67E9-4D69-841B-DC620A1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5242-6987-4064-8578-169F30B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04A69-2EC6-4ED3-9E4C-68ECA9C3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7F436-08FF-445A-BE1A-E34B99A4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1328B-B76C-4097-BDB5-FF45C3A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7367-0A7F-4DFB-ABCC-58BA2D8F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B3B-4E71-4A16-9224-73D20C1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6200-2B3D-495A-B8CE-2C6593E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2EFAB-3894-4481-9DB2-29D19ADD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63E3-99AB-42EB-8D99-FAC6270B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9D35-9C49-40FD-91DA-DBE9EE2B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B5B2-0ADC-4157-8580-87D82BA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EC9F-375C-4332-B53D-56C7BB7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03D66-DC96-4F10-B913-BCD99861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C2A6-31FE-496C-9F81-BE5F838B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12B5-2E9E-40B5-BCEC-127FBCF9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6724-B2CD-4B08-9327-9FF886D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5AB-B2E7-420E-8836-DA440666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B904D-4430-4D3C-848C-BF53A788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70A2-F6DC-493C-971E-D66FF8E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2EB3-E7BA-4143-8FA5-B5F5EBA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4F27-D774-4A6A-AE86-F991B5D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2119-D799-49EB-9ADF-9F8191C4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D7BB-6582-4545-B34F-7839967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37FC-6394-4DAC-9A65-4D7633C7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25EF-DCBE-44B5-B5C2-2B573FC6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4570-D20F-41B3-AC64-D4AEF41C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38E8-90ED-4D8D-823B-5F9F4E30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6A9-E6D3-473E-87DF-74561FB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180D-2F32-44EF-8C70-932391D9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A3C1C-4A40-40DC-AC42-9C71C699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0636D-0A90-4549-A575-FE835E2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FBD00-BCB6-40D9-8627-B813461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03E3-F316-4CF9-838F-B50651D6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3A2C-6008-4F69-A675-45D033E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36993-B0FC-4E6D-888B-BC78E50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2E79-1A78-44B7-8218-A3FC525E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4B4A-3659-4C77-AEA5-0578ECF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EBDF5-CEA0-4F84-BB14-811C1DDD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68C-46B5-4253-A8B3-2BAF9B06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0AA42-2A35-412C-847B-A4663E94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53C5-63C6-4518-8141-CC7745A6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E4198-A2A8-4CEE-BE54-BB7499F3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F73BC-E74A-422E-A7C7-2C6C9FC4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38B1-F15B-48A9-A285-66B55364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AD975-18E1-4DFE-9683-DC7666C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B4091-F605-466E-950A-63E99C7C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A70F-6502-4757-85B1-BB483011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8A4A-B11B-408E-BF58-816D3271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CC7D-6362-4C7C-A092-DD9C90E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3FB-1188-401C-A6AA-7CFFA09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2A73-25AD-44B7-99C6-3A36472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2FC3-A198-436F-B4A6-E36F4DC4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093C8-0197-46FC-B66F-F0774BB3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0559-1065-4029-A789-BC0DA3FF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5AA8E-24F7-486D-B5D7-135ED655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847C-7105-4EFD-8E90-DB5D406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A1A8-963D-4D9D-B592-565882B8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2CC4F-E2B2-4313-A772-15EBA1A9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BC58-C612-495B-A413-FA89A686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1D68B-EA58-43A6-B080-64FAF45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E87-84A4-48FC-BC1A-E42A3ACA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10C57-B9A8-4DE6-BE54-8F383424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9CA11-1F64-4A30-AB03-51B8564F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17C7D-7169-46C8-A3AF-D3440BF1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DC052-5971-4E6B-97A7-6A49D161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9C13-4476-4E13-ADA1-18E6B46A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3D75-43B2-4ECF-AB7A-A6830D44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6FC87-1B68-4AC4-A3AD-15EB8D91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35FF-A789-4E59-BDCD-8E6C7BA0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AA28-6026-4D00-9C83-CC6DAC8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C6D5-5E49-46BC-9A90-967FBDD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7AD-7127-446E-B05D-14519FB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A2CCC-2DF0-4033-9AB9-9E6BFC3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8EA1-3C46-4504-9C61-9E48615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7DF1-0A97-4183-9D1F-AFE33A3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2408C-E968-4A86-905E-1C683A80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71320" y="40546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1425-6BE1-4C99-B907-61021F5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000" y="190512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7132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1000" y="40546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154D1-931E-4A0E-8022-F6880039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767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82120" y="190512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713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767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982120" y="40546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5A32C-EBBE-4963-9009-CF4DA53D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D0054-07F4-4B37-B70C-05ECA916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477F6-9568-40A9-A572-ADAFC5C6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192FC-82EC-43F5-BC4A-D091B416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1BB8D-C549-4FE9-8D78-94885768B2CE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15C14-1E57-435D-BEB9-AE31DAF55F7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shortRule.png"/>
          <p:cNvPicPr/>
          <p:nvPr/>
        </p:nvPicPr>
        <p:blipFill>
          <a:blip r:embed="rId4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A1208-17B0-4EC5-9B89-F36D406E4C4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45D65-E687-4145-AA91-64572FBC410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parAvion.png"/>
          <p:cNvPicPr/>
          <p:nvPr/>
        </p:nvPicPr>
        <p:blipFill>
          <a:blip r:embed="rId4"/>
          <a:stretch/>
        </p:blipFill>
        <p:spPr>
          <a:xfrm rot="307800">
            <a:off x="6835680" y="279000"/>
            <a:ext cx="1695600" cy="4842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9" descr="shortRule.png"/>
          <p:cNvPicPr/>
          <p:nvPr/>
        </p:nvPicPr>
        <p:blipFill>
          <a:blip r:embed="rId5"/>
          <a:stretch/>
        </p:blipFill>
        <p:spPr>
          <a:xfrm>
            <a:off x="3324240" y="4665600"/>
            <a:ext cx="249552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436" name="Picture 10" descr="parAvion.png"/>
          <p:cNvPicPr/>
          <p:nvPr/>
        </p:nvPicPr>
        <p:blipFill>
          <a:blip r:embed="rId6"/>
          <a:stretch/>
        </p:blipFill>
        <p:spPr>
          <a:xfrm rot="20785200">
            <a:off x="2865600" y="3182400"/>
            <a:ext cx="1697040" cy="4842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96C77-40D0-4E7D-AE27-3AD0949EDD6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DCB2B-4602-4B18-B8D1-9E17ACD3AE3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780BD-DF8D-4C8E-9152-96D036720241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87AD9-03DB-48BA-A807-EF7EBEC4BBED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arAvion.png"/>
          <p:cNvPicPr/>
          <p:nvPr/>
        </p:nvPicPr>
        <p:blipFill>
          <a:blip r:embed="rId4"/>
          <a:stretch/>
        </p:blipFill>
        <p:spPr>
          <a:xfrm rot="307800">
            <a:off x="7427880" y="2619000"/>
            <a:ext cx="1581120" cy="4507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" descr="pictureStamp-Frame.png"/>
          <p:cNvPicPr/>
          <p:nvPr/>
        </p:nvPicPr>
        <p:blipFill>
          <a:blip r:embed="rId5"/>
          <a:stretch/>
        </p:blipFill>
        <p:spPr>
          <a:xfrm rot="322200">
            <a:off x="6338880" y="604800"/>
            <a:ext cx="1611360" cy="202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pictureStamp-Frame.png"/>
          <p:cNvPicPr/>
          <p:nvPr/>
        </p:nvPicPr>
        <p:blipFill>
          <a:blip r:embed="rId6"/>
          <a:stretch/>
        </p:blipFill>
        <p:spPr>
          <a:xfrm rot="322200">
            <a:off x="4890960" y="985680"/>
            <a:ext cx="1611360" cy="2024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E3A84-6815-41B3-B100-613FDED2372B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E7458-BD0D-45B0-8C24-461E25D94BCF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C72ED-127E-4F00-9862-EA7D9BD8D662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BD8BD-4060-4B9A-B855-7C4C468831B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verticalRule.png"/>
          <p:cNvPicPr/>
          <p:nvPr/>
        </p:nvPicPr>
        <p:blipFill>
          <a:blip r:embed="rId4"/>
          <a:stretch/>
        </p:blipFill>
        <p:spPr>
          <a:xfrm>
            <a:off x="6513480" y="1562040"/>
            <a:ext cx="152280" cy="3733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722D2-09A9-4AC3-9FEB-9D040A3C06EB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CD1C2-E816-4B97-B9B7-C53D901157F3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19112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A8A30-6D99-483E-A31F-F71D4F314300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95C4E-0B63-468A-B689-538C87F52FE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3DFBC-28D2-4C4E-9F3B-698EB39B6B5E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Title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standardRule.png"/>
          <p:cNvPicPr/>
          <p:nvPr/>
        </p:nvPicPr>
        <p:blipFill>
          <a:blip r:embed="rId4"/>
          <a:stretch/>
        </p:blipFill>
        <p:spPr>
          <a:xfrm>
            <a:off x="2705040" y="4572000"/>
            <a:ext cx="3733920" cy="15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30" name="Picture 9" descr="pictureStamp-Frame.png"/>
          <p:cNvPicPr/>
          <p:nvPr/>
        </p:nvPicPr>
        <p:blipFill>
          <a:blip r:embed="rId5"/>
          <a:stretch/>
        </p:blipFill>
        <p:spPr>
          <a:xfrm rot="21366600">
            <a:off x="5138280" y="59976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pictureStamp-Frame.png"/>
          <p:cNvPicPr/>
          <p:nvPr/>
        </p:nvPicPr>
        <p:blipFill>
          <a:blip r:embed="rId6"/>
          <a:stretch/>
        </p:blipFill>
        <p:spPr>
          <a:xfrm rot="21329400">
            <a:off x="2073240" y="555480"/>
            <a:ext cx="1609920" cy="2025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pictureStamp-Frame.png"/>
          <p:cNvPicPr/>
          <p:nvPr/>
        </p:nvPicPr>
        <p:blipFill>
          <a:blip r:embed="rId7"/>
          <a:stretch/>
        </p:blipFill>
        <p:spPr>
          <a:xfrm rot="151200">
            <a:off x="3592440" y="936360"/>
            <a:ext cx="1609920" cy="202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05C89-110A-46D4-B3D4-68D2AE8DF37F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90D7F-C36B-4CFC-885C-626A048D8E0B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33526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511B5-87AD-41B3-8055-130F7A0B4B22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2665D-159B-47DD-89C7-A9CFB9C5E87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387859-916C-4486-A93D-C686D7A0BAB6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standardRule.png"/>
          <p:cNvPicPr/>
          <p:nvPr/>
        </p:nvPicPr>
        <p:blipFill>
          <a:blip r:embed="rId4"/>
          <a:stretch/>
        </p:blipFill>
        <p:spPr>
          <a:xfrm>
            <a:off x="2705040" y="1523880"/>
            <a:ext cx="3733920" cy="152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9D910-2C8E-4945-8A12-23C8A11269A3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481FD-1B64-4152-A4E8-E4135C6DB5D8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247A3-0ECF-4524-A1D8-2BEA7AB9C1AD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7E3CD-D82B-4993-9372-A86A96D06005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6" descr="TextPag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shortRule.png"/>
          <p:cNvPicPr/>
          <p:nvPr/>
        </p:nvPicPr>
        <p:blipFill>
          <a:blip r:embed="rId4"/>
          <a:stretch/>
        </p:blipFill>
        <p:spPr>
          <a:xfrm>
            <a:off x="1222200" y="2305080"/>
            <a:ext cx="2495880" cy="9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348" name="Picture 8" descr="parAvion.png"/>
          <p:cNvPicPr/>
          <p:nvPr/>
        </p:nvPicPr>
        <p:blipFill>
          <a:blip r:embed="rId5"/>
          <a:stretch/>
        </p:blipFill>
        <p:spPr>
          <a:xfrm rot="307800">
            <a:off x="6797160" y="537840"/>
            <a:ext cx="1808280" cy="51732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9604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2" marL="13438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3" marL="1792080" indent="-447840">
              <a:spcAft>
                <a:spcPts val="2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4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5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6" marL="2240280" indent="-44784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53722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0F28A-1204-443E-A251-7180A505619B}" type="datetime">
              <a:rPr b="0" lang="en-US" sz="1200" spc="-1" strike="noStrike">
                <a:solidFill>
                  <a:srgbClr val="82682c"/>
                </a:solidFill>
                <a:latin typeface="Calisto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571680" y="61596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4046400" y="6159600"/>
            <a:ext cx="105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2682c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2E896-224D-45DF-8273-0CA7FF23B217}" type="slidenum">
              <a:rPr b="0" lang="en-US" sz="1200" spc="-1" strike="noStrike">
                <a:solidFill>
                  <a:srgbClr val="82682c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71320" y="1676160"/>
            <a:ext cx="8001000" cy="24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sto MT"/>
              </a:rPr>
              <a:t>Filmmaking in the Classroom</a:t>
            </a:r>
            <a:endParaRPr b="0" lang="en-US" sz="56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71320" y="44197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Ann Riding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School Technology Specialist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Granite School District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sto MT"/>
              </a:rPr>
              <a:t>UCET 2009</a:t>
            </a: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sto MT"/>
              </a:rPr>
              <a:t>Why have you produced videos with your students?</a:t>
            </a:r>
            <a:endParaRPr b="0" lang="en-US" sz="49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Core Curriculum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Reading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Writing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Library Media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sto MT"/>
              </a:rPr>
              <a:t>Everything!</a:t>
            </a: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marL="415800" indent="-4158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  <a:p>
            <a:pPr lvl="1" marL="831960" indent="-4158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5562720" y="2133720"/>
            <a:ext cx="22096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2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sto MT"/>
              </a:rPr>
              <a:t>st</a:t>
            </a: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 Century Skill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713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Thinking and Problem Solving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nterpersonal and Self-Directional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Learning and Innovation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Information, Media and Technology Skills</a:t>
            </a: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2"/>
          <a:stretch/>
        </p:blipFill>
        <p:spPr>
          <a:xfrm>
            <a:off x="3200400" y="4572000"/>
            <a:ext cx="266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sto MT"/>
              </a:rPr>
              <a:t>Project Ideas</a:t>
            </a:r>
            <a:endParaRPr b="0" lang="en-US" sz="5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028520" y="190512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PSA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Documentarie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Personal Essay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structional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Interviews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Stop Motion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lvl="1" marL="914400" indent="-457200">
              <a:spcAft>
                <a:spcPts val="1001"/>
              </a:spcAft>
              <a:buClr>
                <a:srgbClr val="82682c"/>
              </a:buClr>
              <a:buFont typeface="Wingdings 2" charset="2"/>
              <a:buChar char="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sto MT"/>
              </a:rPr>
              <a:t>And….</a:t>
            </a:r>
            <a:endParaRPr b="0" lang="en-US" sz="2200" spc="-1" strike="noStrike">
              <a:solidFill>
                <a:srgbClr val="000000"/>
              </a:solidFill>
              <a:latin typeface="Calisto MT"/>
            </a:endParaRPr>
          </a:p>
          <a:p>
            <a:pPr marL="457200" indent="-457200">
              <a:spcAft>
                <a:spcPts val="2001"/>
              </a:spcAft>
              <a:buClr>
                <a:srgbClr val="000000"/>
              </a:buClr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6:04:44Z</dcterms:created>
  <dc:creator>Ann Riding</dc:creator>
  <dc:description/>
  <dc:language>en-US</dc:language>
  <cp:lastModifiedBy>Ann Riding</cp:lastModifiedBy>
  <dcterms:modified xsi:type="dcterms:W3CDTF">2009-03-06T06:36:38Z</dcterms:modified>
  <cp:revision>3</cp:revision>
  <dc:subject/>
  <dc:title>Multimedia in the Classroom</dc:title>
</cp:coreProperties>
</file>